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1C2-A76D-4FCD-A0E6-AF62E35F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071-9B7E-49C7-8877-578F7BBA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3155-1D94-4715-81B9-86A279B9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2378-3301-4C9A-BC41-AE023B2F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FCA-1B6C-48B4-BC17-D73E5845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1C0-6D8C-4E14-894D-EC492AAD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ADD4-B97A-4D7D-8FF0-414DD0F07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29A-7A07-4B0C-8E5B-DEFFE718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544F-31BD-4979-A5BC-D94DFC25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33B-D637-4774-A39B-F4BFEB2E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A53-B95D-4097-9310-BA16C33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9FF-3003-4878-A08C-2E57FA1A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A8F-9628-4CB1-AA5F-36CBFE95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2CDA-F3AA-4925-9F78-06FFA73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BB6-8801-434E-BE91-16EFE4FE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5741-9FDF-46C5-A00B-B91B3A2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1DCD-3F36-4054-A8B0-6280ED2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AAB-6B7E-4041-A1FC-23504FB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F847-94AF-45F2-9734-CE0074C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78F1-1B8C-4FA3-90FD-B9698D8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727-D2A8-4E8B-A729-96FD5C09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D81-C39E-4335-8963-6CE97E6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E0CF-F606-4656-863B-EF9FE97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616-C885-46B5-A05E-EADA962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868-D259-4E31-87CA-9C670FA2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7BBE-9AA4-4741-9BB8-7D42ACC7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5BF-835E-4B25-8317-DA786A9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12D-9136-41AF-B1AC-5C21B5F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E23-77D7-4BC6-9175-0518BF7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6C2-0ECC-4A78-BF6D-AA565DC7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286-B283-4057-A535-75B1E0A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EF0-43D7-4DB6-84A1-5256C59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364-18CF-4E87-9813-85F57A3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FB2-15F3-46F8-90FF-7B1C6D76BC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471-E24F-4C75-AC95-86E3CFFCB0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380880"/>
            <a:ext cx="83818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The great writers of fiction speak to and inform the universal human heart and mind.  They warn us of what we should and should not do or be.  Furthermore,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they do not tell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us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these human truths,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they show us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through character development, setting symbolism, and all the other tools at their disposal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HJ Bergamo Small Caps"/>
              </a:rPr>
              <a:t>Fiction informs the human heart about the truth of our exis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nk aloud: Finding an asser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in Stargirl the main character Stargirl chan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girl changes twice during the novel: first she is an eccentric, free-spirit, later she tries to conform to the behaviors of her peers, but finally she returns to her true individualistic sel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Nex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make an assertion based on this analysis of Stargir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k: What new understanding about life, relationships, gender or class does this pres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swer:  Stargirl doesn’t like this society…she finds it shallow and phony…so she quits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ula to make an asser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uthor’s name) is making a point about (general subject); the specific point s/he is making is that ___________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I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rgir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uthor Jerry Spinelli makes a point about the superficial nature of modern society; the specific point he is making is that society is shallow and does not value individuality and it therefore should be re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m Formula to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se your assertion statement adding that the author is using the character(s) to make that specific poi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Jerry Spinelli, author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rgir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uses the protagonist Stargirl to argue that modern society is superficial and incapable of valuing individuality and should be re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then becomes the preliminary thes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another on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he Pear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he main character, Kino, chan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ino changes during the course of  the novel. First he is a young father and husband who is poor but content. However, after he finds a great pearl, he changes into a ruthless murder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nex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w make an assertion based on this analysis of Kin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new understanding about life, relationships, gender or class does this present? (In other words, why does he change? – this is your analysis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swer: Kino changes because of his greed. He finds out that greed is a destructive force that can ruin one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ula to make an asser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uthor’s name) is making a point about (general subject); the specific point s/he is making is that ___________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Author John Steinbeck makes a point about the destructive nature of greed in man; the specific point he is making is that placing one’s greedy needs over the more important intangible needs of family can destroy a man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m Formula to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se your assertion statement adding that the author is using the character(s) to make that specific poi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Through Kino’s struggles with the pearl, Steinbeck demonstrates that placing one’s greedy needs over the more important intangible needs of family can destroy a man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nk Aloud: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 compare/contra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Arthur,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utton, Butt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Chri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undred Bucks of Happ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similar in that both decide to do the right thing.  Both characters are tempted by wealth, but choose to make good, selfless deci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Formula To Use To Make an Asser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the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chard Matheson, author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utton, Butt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Susan Beth Pfeffer, author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 Hundred Bucks of Happ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making a point about self-sacrifice; the specific point they are making is that good people think of others before themsel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457200" y="304920"/>
            <a:ext cx="4038480" cy="2895480"/>
          </a:xfrm>
          <a:prstGeom prst="rightArrow">
            <a:avLst>
              <a:gd name="adj1" fmla="val 50000"/>
              <a:gd name="adj2" fmla="val 34869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48320" y="0"/>
            <a:ext cx="4495680" cy="3886200"/>
          </a:xfrm>
          <a:prstGeom prst="irregularSeal1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Human Behav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62720" y="12952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nsequence of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520" y="28195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Edwardian Script ITC"/>
              </a:rPr>
              <a:t>Authors use. . 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3505320" y="4191120"/>
            <a:ext cx="5562360" cy="23619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228600" y="4267080"/>
            <a:ext cx="4038480" cy="1981440"/>
          </a:xfrm>
          <a:prstGeom prst="rightArrowCallout">
            <a:avLst>
              <a:gd name="adj1" fmla="val 25002"/>
              <a:gd name="adj2" fmla="val 25000"/>
              <a:gd name="adj3" fmla="val 33969"/>
              <a:gd name="adj4" fmla="val 66667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he abstrac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nd concr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114800" y="47242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To illustrate or explain the behavior, or human na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w turn this into a thesi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se your assertion statemen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dding that the author is using the character to make that specific poi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uthors Matheson and Pfeffer are  using their characters of Arthur and Chris to illustrate that to be a good person, one must put the welfare of others above one’s own desi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ph02738u"/>
          <p:cNvPicPr/>
          <p:nvPr/>
        </p:nvPicPr>
        <p:blipFill>
          <a:blip r:embed="rId1"/>
          <a:stretch/>
        </p:blipFill>
        <p:spPr>
          <a:xfrm>
            <a:off x="838080" y="2438280"/>
            <a:ext cx="1854360" cy="27432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55" name="WordArt 2"/>
          <p:cNvSpPr txBox="1"/>
          <p:nvPr/>
        </p:nvSpPr>
        <p:spPr>
          <a:xfrm>
            <a:off x="838080" y="457200"/>
            <a:ext cx="70106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Formulating a 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286000" y="1828800"/>
            <a:ext cx="6858000" cy="4343400"/>
          </a:xfrm>
          <a:prstGeom prst="cloudCallout">
            <a:avLst>
              <a:gd name="adj1" fmla="val -72175"/>
              <a:gd name="adj2" fmla="val 5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H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Brainstorm, free-write, talk to others, make a jot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analysi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 stuff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Compare the effect of one element on another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914400" y="2286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You may show how. .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495680" y="243828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ne Chara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2590920" y="3505320"/>
            <a:ext cx="4114800" cy="1752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988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ff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The meaning of the whole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One Character’s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286000" y="19051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286000" y="320040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286000" y="44197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Thr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143000" y="2286000"/>
            <a:ext cx="838080" cy="1676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6629400" y="35053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0" y="541008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Edwardian Script ITC"/>
              </a:rPr>
              <a:t>Don’t forget to tell. . 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572000" y="4419720"/>
            <a:ext cx="4191120" cy="1904760"/>
          </a:xfrm>
          <a:prstGeom prst="cloudCallout">
            <a:avLst>
              <a:gd name="adj1" fmla="val -65453"/>
              <a:gd name="adj2" fmla="val 64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Why this is importan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pare and Contrast two characters, symbols, settings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86000" y="19051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tting 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0" y="320040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tting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143000" y="2286000"/>
            <a:ext cx="838080" cy="1676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629400" y="35053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28600" y="43434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Edwardian Script ITC"/>
              </a:rPr>
              <a:t>Don’t forget to tell. . 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572000" y="3429000"/>
            <a:ext cx="4191120" cy="2895480"/>
          </a:xfrm>
          <a:prstGeom prst="cloudCallout">
            <a:avLst>
              <a:gd name="adj1" fmla="val -106476"/>
              <a:gd name="adj2" fmla="val 53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What the differences show 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A Liter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alysis Ess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Determine a 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Goal of Analysis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demonstrate some new understanding of the literary 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this new understanding in the form of 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sse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your analysis with evidence and comment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n Asser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ssertion is an opinion about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eneral su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like life, relationships, gender or class that you think the author is making through some element (character, theme, symbol) of the no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MCj03835500000[1]"/>
          <p:cNvPicPr/>
          <p:nvPr/>
        </p:nvPicPr>
        <p:blipFill>
          <a:blip r:embed="rId1"/>
          <a:stretch/>
        </p:blipFill>
        <p:spPr>
          <a:xfrm>
            <a:off x="5684760" y="2133720"/>
            <a:ext cx="1490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1:35:32Z</dcterms:created>
  <dc:creator>Default</dc:creator>
  <dc:description/>
  <dc:language>en-US</dc:language>
  <cp:lastModifiedBy>vhs</cp:lastModifiedBy>
  <dcterms:modified xsi:type="dcterms:W3CDTF">2010-12-06T20:32:57Z</dcterms:modified>
  <cp:revision>19</cp:revision>
  <dc:subject/>
  <dc:title>Writing A Literary Analysis Essay</dc:title>
</cp:coreProperties>
</file>